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40A1-03B9-47A4-8AD2-A39C43E86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B732-26DB-4ADA-8533-DAA627E8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E8FE-35B7-4475-A5E7-BB20832CF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D46A-800F-4861-AF2B-ECE9E3B2C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6B81-B322-46CA-8170-6FC4F040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57B6-BD76-4F4B-9128-8E3ADFE2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DDA8-6E83-4622-A7AA-41BC30E7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3626-422C-42D0-AAF5-D357CE66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5AE0-C175-41EB-9C3A-011E6BB3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34D8-B8F6-4D1C-928E-069D9400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0DDA-0338-4A3E-AE1C-98BFBE41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A7E0-483F-423F-8EAB-4CD8BCA0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B1A0-31F8-48AA-8AED-6A33DA450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5028840"/>
            <a:ext cx="8839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Now 9-20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can ask questions in order to comprehend tex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80880"/>
            <a:ext cx="25909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e down two questions you have about the pictu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90920" y="0"/>
            <a:ext cx="6553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important to ask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ho Is the Dark-Haired One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o model QUESTION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from the beginning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third paragraph, I ask, “Who is Lise?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is question on a post-it and stick it to the chart paper graphic organize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P to page 24.  Read the entire page and write down the TWO questions I wrote down in the packet on post-its.  Stick it on the graphic organiz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class, try to answer the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ing Graphic Organizer Answ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 is Lise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Annemarie’s sis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Daughter of Mr. and Mrs. Johanse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will the photo album prove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t the family has three daughter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could/would have happened if the soldiers found the Star of David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3200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Read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he Breadwinn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rite down FIVE question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n the margins (ANNOTATE)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swer the questions in the packet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TURN YOUR PACKET INTO THE BIN WHEN YOU FINISH!!!!!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5360" y="0"/>
            <a:ext cx="786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"/>
              </a:rPr>
              <a:t>Independent Practi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t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you read your independent book, try to ask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to look for the answ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6:56:17Z</dcterms:created>
  <dc:creator>Administrator</dc:creator>
  <dc:description/>
  <dc:language>en-US</dc:language>
  <cp:lastModifiedBy>Administrator</cp:lastModifiedBy>
  <dcterms:modified xsi:type="dcterms:W3CDTF">2010-09-14T21:43:28Z</dcterms:modified>
  <cp:revision>7</cp:revision>
  <dc:subject/>
  <dc:title>Do Now 9-20 I can ask questions in order to comprehend text.</dc:title>
</cp:coreProperties>
</file>